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F5A-03FD-476C-9369-0DB26694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nalys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stresses customer interaction; natural style for Berkeley - “customer” is often at the next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dbp/core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4-&gt;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- cor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utations;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852-0EDF-4645-8C3B-DA1977B3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0FF-86EE-48E6-BF6B-EBD2174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11F-1C25-4466-8F38-A3897384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422-033D-4F76-B80E-81FD908F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00D-1FF0-4F04-B7F7-FD963E5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577-E776-497E-B632-DC052CB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994-7290-4A85-9EEA-B1801308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ECA-5B93-4ED6-9D2F-2D088D8A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CB1-DF5A-4EB0-8E8B-FBAC9684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520-AD8F-4C63-8D95-ACB4B27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05F-3C0A-43EE-87B8-B94F2B33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620-DD63-4939-AEE5-01CEE4A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9859-AC44-4226-A3B3-BFFDC5ED7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bo.sourceforge.net/relationship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CBi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 Ontology - Infor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, web portal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editing too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QC and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(formerly DAG-Edit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60360"/>
            <a:ext cx="76960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927000"/>
            <a:ext cx="6781680" cy="593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miGO and GO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large ontologies of composite terms are difficult to man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partial automation (reasoner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logical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obtain them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rses logical definitions from class na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al definitions can be reasoned 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ect errors and auto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grates OBO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 Relations Ont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on relations used across ontologies must mean the same 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s_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art_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s_particip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relations ontology provides precise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es class-level relations in terms of thei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obo.sourceforge.net/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aboration with core5, Manchester &amp;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00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 and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, view and compar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IV clinical trial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Captu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d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-Edit plug-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bine classes from multipl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, anatomical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NLP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nical trial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what are the appropriate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Capture and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describ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ebrafish, f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aTO: Phenotype and trait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ype ‘primitives’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Value’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ontolog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 da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ric instance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what are the appropriate ontologies her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ontology of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 val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orphology, structure, plac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status of PA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work to conform to sound ontology princi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malisation of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ing with core3-cambridge (Gkoutos) and core5 (Neuhau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bra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gu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(Fly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962520"/>
          <a:ext cx="6782040" cy="268740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Background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mbry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v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eth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er\GAL4[hs.PB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orsal cuti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wing vein L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ran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emperature sensi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95680" y="1905120"/>
            <a:ext cx="3744000" cy="1739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: J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: Jra[bZIP.Scer\UA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 Descrip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cts in head and dorsal cut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r\GAL4[hs.PB] induces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66688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266688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200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304812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200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467480" y="228564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0" y="191916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A481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486040" y="2590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0360" y="228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bZ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type-Phenotype data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ed to model complex g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-A-V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 and assay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2005 Phenotype mee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2: Reconcile annotation and ontology chang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evolution can trigger annotation chan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classes and annotations will have stable ide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s 1 and 2 to decide on identifier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SID U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Tra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Sto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, view and compare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: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: data annotated using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type-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: A Database for OB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ware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ected from MODs and other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data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ata typed by OBO classes can be sto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nnotation data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"/>
              </a:rPr>
              <a:t>Chado-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(value)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echnolog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antic Web’ database techn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awa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ntologies are part of meta-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igher level query languag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RQL, SeRQL, …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 interoperabi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rotégé-OWL, Jena, .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QL compatibi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tionally layered on relational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ndards? Matur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ny implementatio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same, Kowari,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Store,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view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and compa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rows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-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vanced visualiz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core 1 (University of Victoria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enom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erly BDGP (Berkele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Genome Project) Informat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e sequencing, analysis and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application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odel Organism Data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203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aring annot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tegrating anatomical ontolo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notations should be comparable between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annotations are composed of anatomical te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ultiple species-centric anatomical ont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: how do we compare across spe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PAN (Bard et al): creating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re 1: ontology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4: Linking disease gene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mology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ous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NPs, sequence varia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antic simi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bol, XSPA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disease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ship of phenotype to diseases and disord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 disease ontology (Northweste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OC disease ontology (EVO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y workshop (core 5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ember 200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lifecyc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is developed in pha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fferent phases require interaction with different co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erative “Agile” method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st cy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olve ‘customer’ (core3) at all ph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urrent progres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etin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November 2005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ontology meet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ols worksh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erkeley, UVic, Core 3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-Edit complex class plug-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browser prot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complex class plug-i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binatorial composition of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use-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lant anatomical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ing GO and OBO-Ce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al for phenotype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d to make ‘phenotype’ plug-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oll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 model defin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totype implemen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aulating techn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brows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branch of AmiGO cod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ows browsing and querying of combinatorial phenotype anno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datas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155600"/>
            <a:ext cx="7467480" cy="570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Brow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98520"/>
            <a:ext cx="7238880" cy="5559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-situ expression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mics applic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adF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alysis and annotation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ipeline soft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ational analysis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G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Genomics Software Librar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 and SOF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qu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tology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t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for genom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class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intr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UTR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_varian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transcrip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polypeptid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relational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, GM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ontology/c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for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trong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1-11T22:57:26Z</dcterms:modified>
  <cp:revision>283</cp:revision>
  <dc:subject/>
  <dc:title>NCBIO-Berkeley</dc:title>
</cp:coreProperties>
</file>